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AB8C-8F15-421C-84F6-E0F2CEF2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E1E-FA3D-49E7-91E8-FE62C763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9C802-2B23-458F-B54E-B3DF9E3D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9C446-15DD-4DA3-924F-312DAD65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86A67-A657-405D-8371-17205B6C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0F2E8-820D-4815-974D-51B5D821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D92A4-5629-42A2-A68C-9483C9DD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AD75F-03B0-4E98-BB8A-B1AA6D45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07414-61C4-474E-AA50-191156C5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DB9C2-4502-4394-9E7B-16CA8B12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1B8DC-80AA-4F75-8309-DBE0CC38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0642C-8397-4EA8-A9F3-D8EEA68A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631-32D4-431F-8096-279B7E63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888B1-6B35-4866-BF8E-338F0F08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2EC8C-5F83-4884-86B8-87A9AA1C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22B1F-13D2-40C3-BB43-B23E8876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A3413-3685-4A11-AB13-C8978E4B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9930F-E8B7-40D2-9347-5F5B1E24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EA62D-4BD5-4E1C-97EB-DC66B769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542BB-2508-46E9-A129-8D08A996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5393F-60D9-4AA3-8605-933D0029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CB4E9-F099-470D-AA4E-C1197052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46E85-B566-4CB7-AB12-9C570698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E122-CC59-410B-AC46-12DE660A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EC2C3-184C-4AD0-B693-E0BB9C93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19EF7-7FC9-4CC8-96B7-CD852469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F456C-E26B-4D5C-8064-B3FF5CEA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ADF34-6192-454B-BF76-8BABC54D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121F8-AC96-4A1E-BFDB-6BBE1973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28F0B-868F-41A2-8A04-A90F7ECE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38E5A-83F5-4A2E-A0FB-B45C441C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77EDE-AB12-4E35-AF82-CF4B2B37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A73E0-F046-4EFE-84AA-DC8E8A67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31411-8C8E-4A10-88C6-8C39156C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ED74-2493-4445-9ABE-E88710DA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90C51-AEBA-4487-8F05-832D3F37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9DFCF-0523-4689-8A14-224A1934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B8F64-A255-4DC6-87EB-15906B82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5B8BE-0368-4680-BAAE-57754CD2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F6DBE-58C1-4C84-9B48-C91CD80C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7CFE6-41C7-4FB7-A53C-CF66717E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D7D29-9D72-4C27-B0C9-95DF001A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9B8A1-7D6E-4AEA-B5A7-36EC344B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EA161-E93F-41E5-9D36-78BB4300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E021B-E0C2-48ED-ABB5-35D0DE05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A7C6-BA2C-4187-9030-6714478F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342E6-7438-4CEB-BB9C-77A2A66A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7BC60-39DE-4620-8F1A-D0D00A6C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7A2B4-84CA-49B0-8704-A4537F89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A61A3-3B3F-4970-A803-325B9A95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DF960-61F8-4A07-9583-246D0DF5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A94F-5A77-4363-8E61-DE3C343E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E921-17B1-40A1-9A6D-F71A6DF3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82E7-9486-4648-AA1A-B926914C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8843-06B9-4E8C-95E5-6C11D22E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4024-FCAA-431C-A42F-3C036920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F73-6450-4A20-A36A-14C835CE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8993-E923-4486-BB9E-833EE151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16AA-33C9-417D-B9D2-5D54E79D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3B1B-23BB-46F5-9CBA-46E1647A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7557-8E99-497B-A2BA-15E96F6D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A769-9D32-47A1-B2D1-C08C9A8D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6603F-157F-4E10-8C1E-5B94594C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4EA6C-7E2A-4C7E-B9ED-888710BC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B7366-8A71-4653-B7B1-129EC261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CE1EA-548A-4834-B064-263AFD4F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83AF4-9EC0-43DD-88AA-D8A5A1D0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83A-31C7-497E-98A9-9B53D0A1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37641-BABE-4A71-9CE4-859A0DC6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F7270-8490-45D2-8534-58270556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C8AA2-4CC2-4B52-8C53-1A47638A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FD794-397D-4E0D-9E8C-57E91D6C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4F3B8-9079-48FF-BF4C-AB2F48D1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FC139-9BB5-4F3D-B5C9-FE271565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C4D35-4459-40F1-A4B7-443BC337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0A8FB-081A-405C-B7A6-9912C909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957AA-343B-4601-BB4B-49F6756C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7A3F6-00D6-49E5-8F61-1F8E6400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AD2-0F59-4FDB-9B16-8743E718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51F54-C0BD-4302-9C21-FB799208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81E33-2ED5-4675-BC98-6AED2296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32C3E-D533-4647-ABD2-D5C67981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F1DE4-2ABC-47CB-A934-50680CBA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59772-5372-4A02-9E29-FF9D721F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333D5-E0F0-498D-B978-AACF6109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6AFBA-B6C5-4598-81D2-5B347141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41423-1253-40B0-86AB-7CE331A4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C6FFA-3C98-43AC-A241-DB8AE305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8EDAF-B350-4D37-AE8A-24275D3D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F77B-B082-4225-8CD0-E79138AE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2C778-EA79-466D-9A88-A6FCD082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35327-A7F7-4735-BCEA-D401D115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5494A-EC58-4538-90FE-E2CFD7F4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231E2-1D44-4AD6-9792-07694594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11743-B153-468B-9E1B-A2FFBA15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F46C1-C022-4EFA-8146-B49927B3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4A3EC-EE30-4C33-B686-90953882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0DE9F-1B57-45A4-A1EA-062513AC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AF6A1-868A-49AD-928F-FF4ECEE0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8B9BF-1F3E-411F-A077-63D4E9E1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749A-22AD-49D1-B4C2-B1351476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F2611-23E3-4A7C-87E3-7ABF1744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C8C69-2028-4422-956D-B16BD951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329E7-7C41-4E50-B0CD-B0F3D673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23F92-BD93-40C6-95C9-6F03EA61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18BD2-33A3-4228-A1A3-891A02D2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E1587-9E52-4C25-BB5F-7AAB46F3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AD1CC-34F8-4760-84F6-833EF41E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EAA7F-2747-4A78-8651-5C60C721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02CF9-CC01-4BFE-A588-A71E4DBC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CC352-DB60-421F-BDA0-EB6CCF2F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668-04D2-49F5-9F1D-8BD9C525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5D454-3C67-4C2E-A593-7748B2BA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3A729-5777-4D11-8C43-0541FD01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3BFE5-B204-42F5-957C-D9184F64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3C9A7-C269-40C7-B86B-13874F81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B9C52-CE66-4E39-8B76-4756B003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F0605-48BB-4276-A88F-E2C03ED0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DB8EF-7381-403E-89BA-57CBF2FB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87A04-9EE0-48F4-8E18-6192DE4F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DC85A-BECC-4024-8D2B-30744E37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F022B-7D2B-4A21-82AE-D0E4F105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99B3-7723-40E0-8933-F60C4689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48A20-95D4-49BB-9054-63D2F284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67F65-06C5-44C2-A879-F2B549DB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D71B0-BE1A-4067-A337-910E68C2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E6AE4-B10E-4515-ABBE-BD003D30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152EB-4EE3-405B-8073-D6EEC273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DB35E-9E02-472E-89BB-25622A20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20190-50E6-4C3A-B660-49088627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7B20F-7F7F-41C0-BC18-7C25316C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C815C-34CF-428E-B71E-70FCF426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A5154-0993-4DBA-BB98-78E8D6A6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A9F-05A1-4192-B9E1-68103FEC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07CF2-E1CC-4084-A731-9F8EFE68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65668-E846-4662-80C8-88B1C99B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49B39-D23A-4412-9F71-F76EE4A8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736A1-9F58-48B9-A108-74BFD899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21410-2466-4686-81BD-A63AF124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45E24-6950-4B24-B275-E4504FEA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66DDF-6C42-464A-8A6E-A2A4B97E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55D36-6573-4575-AB31-FE127417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513DC-267E-40DA-907C-9E2A3F1D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279EC-EBC2-4632-8182-2D813207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F3B7-27C6-4341-9550-67A2944C9459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Page </a:t>
            </a:r>
            <a:r>
              <a:rPr b="0" lang="en-US" sz="1000" spc="-1" strike="noStrike">
                <a:solidFill>
                  <a:srgbClr val="073e87"/>
                </a:solidFill>
                <a:latin typeface="MS UI Gothic"/>
              </a:rPr>
              <a:t></a:t>
            </a: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 </a:t>
            </a:r>
            <a:fld id="{3BD8FE07-2597-4361-8F5F-FF2428CF2FA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3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7200-31FA-470F-BCCC-9F6052FAB9A7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31CB-C0A5-4457-8D4B-05D11A253D2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BD62-3935-4F3D-AC3E-FEBA7527EF89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2F89-B816-4228-9A0E-AB44B8D42DF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383D-762B-4CA7-8F18-5C56376239F7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BF79-2D66-4F04-8D2B-109A2FC7432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67D7-89D0-4689-B673-92AF55F84880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EAF7-A474-4BB4-B62D-34B9A8C45AF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080D-4D19-4870-B1CA-371ACC33E812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B98B-977C-4F31-915D-7C0E71EE665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3C7E-7DF3-4C1F-A1C8-93C847CCD458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5A47-0E53-46F9-9E32-D046E4ACBA0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2EE3-3E20-4D83-B9D0-A2C4D8F57E59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2342-3FF8-4D48-B92D-139D698A34B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3C5A-2B6A-46F0-BFC8-685709E290A0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ADDE-AB2E-455B-9504-8824AC7201C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8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58D0-89ED-4115-8541-4E212B09FC63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215C-2C39-4143-AC34-6D36B12F914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1847-5EBF-4E39-AF37-DD2C5B48AC84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4070-1477-4CFD-9ECA-802510D8A36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A5BD-A1E1-4C40-8D1C-71A3CE9D1966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966F-78B6-45ED-B92B-699ACE63348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WordArt 2"/>
          <p:cNvSpPr txBox="1"/>
          <p:nvPr/>
        </p:nvSpPr>
        <p:spPr>
          <a:xfrm>
            <a:off x="2101680" y="3251160"/>
            <a:ext cx="611532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DilleniaUPC"/>
              </a:rPr>
              <a:t>Why don't you talk to your parents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DilleniaUPC"/>
              <a:ea typeface="DilleniaUPC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2994120" y="4132440"/>
            <a:ext cx="25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R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八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417600" y="3097080"/>
            <a:ext cx="25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Unit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6"/>
          <p:cNvSpPr/>
          <p:nvPr/>
        </p:nvSpPr>
        <p:spPr>
          <a:xfrm>
            <a:off x="417600" y="3952800"/>
            <a:ext cx="7932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2427120" y="4691160"/>
            <a:ext cx="441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ec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AutoShape 2"/>
          <p:cNvSpPr/>
          <p:nvPr/>
        </p:nvSpPr>
        <p:spPr>
          <a:xfrm>
            <a:off x="817560" y="495360"/>
            <a:ext cx="7924680" cy="1041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e.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Discuss the questions with your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3"/>
          <p:cNvSpPr/>
          <p:nvPr/>
        </p:nvSpPr>
        <p:spPr>
          <a:xfrm>
            <a:off x="1158840" y="2082960"/>
            <a:ext cx="6753240" cy="3462120"/>
          </a:xfrm>
          <a:prstGeom prst="flowChartDocument">
            <a:avLst/>
          </a:prstGeom>
          <a:solidFill>
            <a:srgbClr val="ccffcc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 What do you think of after-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tivities?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 What should you do to relax?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AutoShape 2"/>
          <p:cNvSpPr/>
          <p:nvPr/>
        </p:nvSpPr>
        <p:spPr>
          <a:xfrm>
            <a:off x="746280" y="314280"/>
            <a:ext cx="7534080" cy="21589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76320">
            <a:solidFill>
              <a:srgbClr val="31b6f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3a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 magazine interviewed some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out after-school classes for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ad the opinions below and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otes on your own opinions.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338040" y="2681280"/>
            <a:ext cx="82756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Why should children take after-school cla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 " After-school classes can help kids get i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 good university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 " I want my child to be a successful person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" It's good for children to start learning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 young ag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2"/>
          <p:cNvSpPr/>
          <p:nvPr/>
        </p:nvSpPr>
        <p:spPr>
          <a:xfrm>
            <a:off x="593640" y="66600"/>
            <a:ext cx="1158840" cy="987480"/>
          </a:xfrm>
          <a:custGeom>
            <a:avLst/>
            <a:gdLst>
              <a:gd name="textAreaLeft" fmla="*/ 264600 w 1158840"/>
              <a:gd name="textAreaRight" fmla="*/ 894240 w 1158840"/>
              <a:gd name="textAreaTop" fmla="*/ 225360 h 987480"/>
              <a:gd name="textAreaBottom" fmla="*/ 762120 h 98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3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3"/>
          <p:cNvSpPr/>
          <p:nvPr/>
        </p:nvSpPr>
        <p:spPr>
          <a:xfrm>
            <a:off x="2093760" y="169920"/>
            <a:ext cx="3397320" cy="884160"/>
          </a:xfrm>
          <a:custGeom>
            <a:avLst/>
            <a:gdLst>
              <a:gd name="textAreaLeft" fmla="*/ 0 w 3397320"/>
              <a:gd name="textAreaRight" fmla="*/ 3397680 w 339732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507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Your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4"/>
          <p:cNvSpPr/>
          <p:nvPr/>
        </p:nvSpPr>
        <p:spPr>
          <a:xfrm>
            <a:off x="219240" y="1209600"/>
            <a:ext cx="1938240" cy="781200"/>
          </a:xfrm>
          <a:prstGeom prst="flowChartMagneticTape">
            <a:avLst/>
          </a:prstGeom>
          <a:solidFill>
            <a:srgbClr val="ccffcc"/>
          </a:solidFill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219240" y="1209600"/>
            <a:ext cx="8407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fter-school classes are good for the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hildren's future. They can hel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hildren get into good schools and univers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ome of these classes help children to feel good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themse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ome classes help children to learn important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not taught at school. These skills may actually hel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hildren rela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People learn better at a younger 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hildren have more time than adults, so they shou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earn as much as they can before they get too busy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earn new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AutoShape 2"/>
          <p:cNvSpPr/>
          <p:nvPr/>
        </p:nvSpPr>
        <p:spPr>
          <a:xfrm>
            <a:off x="351000" y="274680"/>
            <a:ext cx="2458800" cy="779400"/>
          </a:xfrm>
          <a:prstGeom prst="flowChartPunchedTape">
            <a:avLst/>
          </a:prstGeom>
          <a:solidFill>
            <a:srgbClr val="ffccff"/>
          </a:solidFill>
          <a:ln w="507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sa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609480" y="1419120"/>
            <a:ext cx="810756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fter-school classes take away the children's fr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time. Children have no time to relax and just 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n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hildren may be so busy they have no tim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bsorb and apply what they have been tau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ome children are made to learn skills they are n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nterested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These classes cause the children to be stre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These classes take away the children's child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1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1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1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10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10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1000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1000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1000"/>
                                        <p:tgtEl>
                                          <p:spTgt spid="6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2"/>
          <p:cNvSpPr/>
          <p:nvPr/>
        </p:nvSpPr>
        <p:spPr>
          <a:xfrm>
            <a:off x="1209600" y="222120"/>
            <a:ext cx="6688080" cy="2068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3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rite a letter to the magazin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press your opinions on after-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lasses for children. Use th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pressions to help you.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9"/>
          <p:cNvSpPr/>
          <p:nvPr/>
        </p:nvSpPr>
        <p:spPr>
          <a:xfrm>
            <a:off x="493560" y="2762280"/>
            <a:ext cx="7553520" cy="521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8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First, say if you agree or disag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56"/>
          <p:cNvSpPr/>
          <p:nvPr/>
        </p:nvSpPr>
        <p:spPr>
          <a:xfrm>
            <a:off x="493560" y="3686040"/>
            <a:ext cx="755352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Dear …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 don’t really agree with … becaus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Although some parents are right about … , I think children should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AutoShape 2"/>
          <p:cNvSpPr/>
          <p:nvPr/>
        </p:nvSpPr>
        <p:spPr>
          <a:xfrm>
            <a:off x="768240" y="66600"/>
            <a:ext cx="1158840" cy="987480"/>
          </a:xfrm>
          <a:custGeom>
            <a:avLst/>
            <a:gdLst>
              <a:gd name="textAreaLeft" fmla="*/ 264600 w 1158840"/>
              <a:gd name="textAreaRight" fmla="*/ 894240 w 1158840"/>
              <a:gd name="textAreaTop" fmla="*/ 225360 h 987480"/>
              <a:gd name="textAreaBottom" fmla="*/ 762120 h 98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5eae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3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00"/>
          <p:cNvSpPr/>
          <p:nvPr/>
        </p:nvSpPr>
        <p:spPr>
          <a:xfrm>
            <a:off x="957240" y="1409760"/>
            <a:ext cx="4494240" cy="521280"/>
          </a:xfrm>
          <a:prstGeom prst="rect">
            <a:avLst/>
          </a:prstGeom>
          <a:solidFill>
            <a:srgbClr val="ff99cc"/>
          </a:solidFill>
          <a:ln w="38160">
            <a:solidFill>
              <a:srgbClr val="99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hen,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03"/>
          <p:cNvSpPr/>
          <p:nvPr/>
        </p:nvSpPr>
        <p:spPr>
          <a:xfrm>
            <a:off x="768240" y="2265480"/>
            <a:ext cx="7632720" cy="38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n my opinion, it is important for children / parents to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 believe it is better if children / parents … so tha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Perhaps children / parents should / could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f children … , they will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矩形 6" descr=""/>
          <p:cNvPicPr/>
          <p:nvPr/>
        </p:nvPicPr>
        <p:blipFill>
          <a:blip r:embed="rId1"/>
          <a:stretch/>
        </p:blipFill>
        <p:spPr>
          <a:xfrm>
            <a:off x="2714760" y="392040"/>
            <a:ext cx="3381120" cy="8589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 txBox="1"/>
          <p:nvPr/>
        </p:nvSpPr>
        <p:spPr>
          <a:xfrm>
            <a:off x="487440" y="1250640"/>
            <a:ext cx="639432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3e87"/>
                </a:solidFill>
                <a:latin typeface="宋体"/>
                <a:ea typeface="宋体"/>
              </a:rPr>
              <a:t>用所给动词的正确形式完成短文。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488880" y="1714680"/>
            <a:ext cx="8215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ar Liv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 have some problems, I need your he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y friends planned a party last Sunday. But they _____________ ( not invite ) me. I want 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 call ) up John, but I know I shouldn’t _________ ( argue ) with him. My friend Sandy always  ________ ( wear ) the same clothes as I do. I don’t know what to do. Could you ________ ( help ) me? Thanks a l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ours sincere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Jen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9"/>
          <p:cNvSpPr/>
          <p:nvPr/>
        </p:nvSpPr>
        <p:spPr>
          <a:xfrm>
            <a:off x="487440" y="2954160"/>
            <a:ext cx="255420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didn’t inv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6365880" y="2954160"/>
            <a:ext cx="19479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to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9"/>
          <p:cNvSpPr/>
          <p:nvPr/>
        </p:nvSpPr>
        <p:spPr>
          <a:xfrm>
            <a:off x="6562800" y="3430440"/>
            <a:ext cx="175104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r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6881760" y="3649680"/>
            <a:ext cx="1751040" cy="7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w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3041640" y="4673520"/>
            <a:ext cx="17524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1533600" y="442800"/>
            <a:ext cx="6832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Are you busy in a wee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What do you do after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3" descr="u=2088708571,4226116252&amp;fm=23&amp;gp=0"/>
          <p:cNvPicPr/>
          <p:nvPr/>
        </p:nvPicPr>
        <p:blipFill>
          <a:blip r:embed="rId1"/>
          <a:stretch/>
        </p:blipFill>
        <p:spPr>
          <a:xfrm>
            <a:off x="311040" y="2070000"/>
            <a:ext cx="4000680" cy="245916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4"/>
          <p:cNvSpPr/>
          <p:nvPr/>
        </p:nvSpPr>
        <p:spPr>
          <a:xfrm>
            <a:off x="4657680" y="2954160"/>
            <a:ext cx="33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study 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5" descr="u=1867573703,3949115100&amp;fm=23&amp;gp=0"/>
          <p:cNvPicPr/>
          <p:nvPr/>
        </p:nvPicPr>
        <p:blipFill>
          <a:blip r:embed="rId2"/>
          <a:stretch/>
        </p:blipFill>
        <p:spPr>
          <a:xfrm>
            <a:off x="4494240" y="3873600"/>
            <a:ext cx="4340160" cy="285264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6"/>
          <p:cNvSpPr/>
          <p:nvPr/>
        </p:nvSpPr>
        <p:spPr>
          <a:xfrm>
            <a:off x="711360" y="5137200"/>
            <a:ext cx="33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study m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273320" y="417600"/>
            <a:ext cx="6832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Are you busy in a wee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What do you do after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u=3186043011,2873490654&amp;fm=23&amp;gp=0"/>
          <p:cNvPicPr/>
          <p:nvPr/>
        </p:nvPicPr>
        <p:blipFill>
          <a:blip r:embed="rId1"/>
          <a:srcRect l="0" t="0" r="0" b="8201"/>
          <a:stretch/>
        </p:blipFill>
        <p:spPr>
          <a:xfrm>
            <a:off x="1273320" y="2468520"/>
            <a:ext cx="3003480" cy="367812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4"/>
          <p:cNvSpPr/>
          <p:nvPr/>
        </p:nvSpPr>
        <p:spPr>
          <a:xfrm>
            <a:off x="5005440" y="3124080"/>
            <a:ext cx="310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have pi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1273320" y="417600"/>
            <a:ext cx="6832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Are you busy in a wee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What do you do after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3" descr="u=2316084764,84308602&amp;fm=23&amp;gp=0"/>
          <p:cNvPicPr/>
          <p:nvPr/>
        </p:nvPicPr>
        <p:blipFill>
          <a:blip r:embed="rId1"/>
          <a:srcRect l="0" t="0" r="0" b="10620"/>
          <a:stretch/>
        </p:blipFill>
        <p:spPr>
          <a:xfrm>
            <a:off x="257040" y="2044800"/>
            <a:ext cx="4321440" cy="257472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4"/>
          <p:cNvSpPr/>
          <p:nvPr/>
        </p:nvSpPr>
        <p:spPr>
          <a:xfrm>
            <a:off x="4770360" y="2563920"/>
            <a:ext cx="3672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watch mo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5" descr="u=3822969275,2602646123&amp;fm=23&amp;gp=0"/>
          <p:cNvPicPr/>
          <p:nvPr/>
        </p:nvPicPr>
        <p:blipFill>
          <a:blip r:embed="rId2"/>
          <a:stretch/>
        </p:blipFill>
        <p:spPr>
          <a:xfrm>
            <a:off x="4578480" y="3727440"/>
            <a:ext cx="4354560" cy="298764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6"/>
          <p:cNvSpPr/>
          <p:nvPr/>
        </p:nvSpPr>
        <p:spPr>
          <a:xfrm>
            <a:off x="698400" y="5032440"/>
            <a:ext cx="3395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play sports or exerc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AutoShape 2"/>
          <p:cNvSpPr/>
          <p:nvPr/>
        </p:nvSpPr>
        <p:spPr>
          <a:xfrm>
            <a:off x="870120" y="272880"/>
            <a:ext cx="7769160" cy="1692360"/>
          </a:xfrm>
          <a:prstGeom prst="flowChartAlternateProcess">
            <a:avLst/>
          </a:prstGeom>
          <a:solidFill>
            <a:srgbClr val="ffff99"/>
          </a:solidFill>
          <a:ln w="7632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c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ook at the words in bold in the art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n you guess their meanings? Try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tch them with the meanings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870120" y="2290680"/>
            <a:ext cx="77691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 Keeps on happening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 Physical exercise and practice of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Worries about things at home, school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ork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 Usual or common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5021280" y="2290680"/>
            <a:ext cx="22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conti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1338120" y="3527280"/>
            <a:ext cx="22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2314440" y="4724280"/>
            <a:ext cx="22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7"/>
          <p:cNvSpPr/>
          <p:nvPr/>
        </p:nvSpPr>
        <p:spPr>
          <a:xfrm>
            <a:off x="4435560" y="5241960"/>
            <a:ext cx="22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ty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utoShape 2"/>
          <p:cNvSpPr/>
          <p:nvPr/>
        </p:nvSpPr>
        <p:spPr>
          <a:xfrm>
            <a:off x="765000" y="182520"/>
            <a:ext cx="1159200" cy="988920"/>
          </a:xfrm>
          <a:custGeom>
            <a:avLst/>
            <a:gdLst>
              <a:gd name="textAreaLeft" fmla="*/ 264600 w 1159200"/>
              <a:gd name="textAreaRight" fmla="*/ 894600 w 1159200"/>
              <a:gd name="textAreaTop" fmla="*/ 225720 h 988920"/>
              <a:gd name="textAreaBottom" fmla="*/ 763200 h 98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2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766800" y="1171440"/>
            <a:ext cx="755964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Try to be the best or the first to fin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mething 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 Getting better or bigger 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. Looking for differences and similar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etween things 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394080" y="2317680"/>
            <a:ext cx="22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comp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5495760" y="3238560"/>
            <a:ext cx="311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3967200" y="5072040"/>
            <a:ext cx="22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comp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2"/>
          <p:cNvSpPr/>
          <p:nvPr/>
        </p:nvSpPr>
        <p:spPr>
          <a:xfrm>
            <a:off x="1649520" y="176040"/>
            <a:ext cx="6297480" cy="1197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2d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Read the article again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nswer the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649520" y="1562040"/>
            <a:ext cx="670536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Candara"/>
                <a:ea typeface="Arial"/>
              </a:rPr>
              <a:t>Q1.</a:t>
            </a:r>
            <a:r>
              <a:rPr b="1" lang="en-US" sz="2800" spc="-1" strike="noStrike">
                <a:solidFill>
                  <a:srgbClr val="0000ff"/>
                </a:solidFill>
                <a:latin typeface="Candara"/>
                <a:ea typeface="Arial"/>
              </a:rPr>
              <a:t> Does Cathy Taylor think it’s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ndara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Candara"/>
                <a:ea typeface="Arial"/>
              </a:rPr>
              <a:t>important for kids to join after-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ndara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Candara"/>
                <a:ea typeface="Arial"/>
              </a:rPr>
              <a:t>school activities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Candara"/>
                <a:ea typeface="Arial"/>
              </a:rPr>
              <a:t>Q2. </a:t>
            </a:r>
            <a:r>
              <a:rPr b="1" lang="en-US" sz="2800" spc="-1" strike="noStrike">
                <a:solidFill>
                  <a:srgbClr val="160cd8"/>
                </a:solidFill>
                <a:latin typeface="Candara"/>
                <a:ea typeface="Arial"/>
              </a:rPr>
              <a:t>Does Linda Miller agree with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cd8"/>
                </a:solidFill>
                <a:latin typeface="Candara"/>
                <a:ea typeface="Arial"/>
              </a:rPr>
              <a:t>      </a:t>
            </a:r>
            <a:r>
              <a:rPr b="1" lang="en-US" sz="2800" spc="-1" strike="noStrike">
                <a:solidFill>
                  <a:srgbClr val="160cd8"/>
                </a:solidFill>
                <a:latin typeface="Candara"/>
                <a:ea typeface="Arial"/>
              </a:rPr>
              <a:t>Cathy? What’s her opinion?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Candara"/>
                <a:ea typeface="Arial"/>
              </a:rPr>
              <a:t>Q3. </a:t>
            </a:r>
            <a:r>
              <a:rPr b="1" lang="en-US" sz="2800" spc="-1" strike="noStrike">
                <a:solidFill>
                  <a:srgbClr val="0000ff"/>
                </a:solidFill>
                <a:latin typeface="Candara"/>
                <a:ea typeface="Arial"/>
              </a:rPr>
              <a:t>Does Dr. Green agree with Cathy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ndara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Candara"/>
                <a:ea typeface="Arial"/>
              </a:rPr>
              <a:t>or Linda? What does she say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AutoShape 2"/>
          <p:cNvSpPr/>
          <p:nvPr/>
        </p:nvSpPr>
        <p:spPr>
          <a:xfrm>
            <a:off x="609480" y="600120"/>
            <a:ext cx="1158840" cy="987480"/>
          </a:xfrm>
          <a:custGeom>
            <a:avLst/>
            <a:gdLst>
              <a:gd name="textAreaLeft" fmla="*/ 264600 w 1158840"/>
              <a:gd name="textAreaRight" fmla="*/ 894240 w 1158840"/>
              <a:gd name="textAreaTop" fmla="*/ 225360 h 987480"/>
              <a:gd name="textAreaBottom" fmla="*/ 762120 h 98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5eae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2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"/>
          <p:cNvSpPr/>
          <p:nvPr/>
        </p:nvSpPr>
        <p:spPr>
          <a:xfrm>
            <a:off x="1994040" y="325440"/>
            <a:ext cx="614196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1.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Does Cathy Taylor think it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mportant for kids to join aft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school activ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Yes, she does. She thinks tha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fter- school activities are g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or the children's 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2. </a:t>
            </a:r>
            <a:r>
              <a:rPr b="1" lang="en-US" sz="2800" spc="-1" strike="noStrike">
                <a:solidFill>
                  <a:srgbClr val="160cd8"/>
                </a:solidFill>
                <a:latin typeface="Arial"/>
                <a:ea typeface="宋体"/>
              </a:rPr>
              <a:t>Does Linda Miller agree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cd8"/>
                </a:solidFill>
                <a:latin typeface="Arial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160cd8"/>
                </a:solidFill>
                <a:latin typeface="Arial"/>
                <a:ea typeface="宋体"/>
              </a:rPr>
              <a:t>Cathy? What’s her opin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No, she doesn't. She thinks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people shouldn't push the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children so hard, and th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hould let their kids be k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1000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1000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1000"/>
                                        <p:tgtEl>
                                          <p:spTgt spid="6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1000"/>
                                        <p:tgtEl>
                                          <p:spTgt spid="6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1000"/>
                                        <p:tgtEl>
                                          <p:spTgt spid="6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2"/>
          <p:cNvSpPr/>
          <p:nvPr/>
        </p:nvSpPr>
        <p:spPr>
          <a:xfrm>
            <a:off x="609480" y="600120"/>
            <a:ext cx="1158840" cy="987480"/>
          </a:xfrm>
          <a:custGeom>
            <a:avLst/>
            <a:gdLst>
              <a:gd name="textAreaLeft" fmla="*/ 264600 w 1158840"/>
              <a:gd name="textAreaRight" fmla="*/ 894240 w 1158840"/>
              <a:gd name="textAreaTop" fmla="*/ 225360 h 987480"/>
              <a:gd name="textAreaBottom" fmla="*/ 762120 h 98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38160">
            <a:solidFill>
              <a:srgbClr val="5e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2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1768320" y="390600"/>
            <a:ext cx="6585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Q3.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Does Dr. Green agre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Cathy or Linda? What do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she s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r. Green agrees with Li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he says that after-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ctivities can cause a lo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tress for children. She al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ays that children should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ime to relax and think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hemselves, and that it's m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mportant to have hap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hildren than successful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6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6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daidai</dc:creator>
  <dc:description/>
  <cp:keywords/>
  <dc:language>en-US</dc:language>
  <cp:lastModifiedBy>will</cp:lastModifiedBy>
  <dcterms:modified xsi:type="dcterms:W3CDTF">2016-03-25T02:31:32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